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8927-1F32-4E4E-BA6F-21EFA3074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2CB4-BEE7-438F-B348-485708AE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771C-1EE5-461A-A452-FD810D69B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807A-F721-4C55-9EEA-F1F9791DF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D27A-8AAD-448D-AE21-3E68CC1DD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648D-9311-4159-B83C-CA156432E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155B-8C3D-4FF3-88DE-EE6054536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118E-737A-4BF2-B345-40027119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012E-107E-48EF-AB20-ADB1ABF55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37B7-3EDA-428B-A8CF-2AB8510CF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0D9E-07ED-498E-A037-BA028DF71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6BED-28A3-4F48-AA56-1BBC37047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86B2-BF29-47B9-81EE-9293DFC56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9700-599B-4692-B272-41652C84D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EF1C-172A-4A96-B51D-EFC257221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1F5F-2A83-420D-93EC-751B0C2B3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BEB8-9C72-4D55-B87A-BF7157FA9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1022-F1D3-452F-8729-6B4E84A49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2E2A-0E3F-40C3-80EE-AE0A1027A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FA5A-1D43-4436-A75F-F3FD44CB1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3AA3-8373-4291-864C-236D603FE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A9B8-87CD-48C2-94B0-54E04AC02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9E57-AE33-41D2-B2D4-27C71259D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052F-5EDF-41B1-AE87-E93732094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7E1-7465-48EB-BE50-A4C7CAFE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B34-E19E-4B3D-B686-A7B2E33D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605A-3DE7-4464-B4F2-EFD995E4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02B-834B-4694-BE0C-C6A2DB3C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E6B6-DA4C-47A1-B797-DE18A9EB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DD46-DEE4-468A-ACB9-B081BCFF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01D8-1C4E-4B3C-91B5-C46C33A3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AF91-DCCE-4ED7-9E19-D35E31B3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FFAC-2941-4536-8DF4-B4A5BA9D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A9AB-CACE-463D-92EE-4E87632B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EB2D-F845-475E-BEA2-088B1820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74D-DADE-42FD-A587-E7A55A3A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266B-D849-4B43-B3F7-C1D852DA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195D-A373-4A6E-A223-B4EAFD3A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B7E2-E6D2-4157-AF77-D3E6E0F2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A0E2-E19B-4390-8D03-FCE13017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A3C6-84F1-468F-B636-F6BD20B5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160-8C3F-4254-9122-5B8319C7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4FB-C1C0-452D-A94B-35AA5523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6F5-35BC-49F0-9035-7EC02F8D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D04-41C2-44C7-93C0-6A8D5070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2EF-83BF-4BDD-9993-E8323BA8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E11-6516-4A14-8A96-E0AA444B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CB4-B313-4CB9-BCA7-9AF0DD92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F5AE-3232-4403-8FB3-84B7E028E6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724D-5042-48C4-85F3-AC0834ACBE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Progressive Era, 1880-1920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Immigration&amp; Progressivism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million between 1900-19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merican Dr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ements and sweat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ial hierarc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ic en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theastern Europe, Catholic, languages and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olling Immig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82: Immigr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, “idiots, lunatics, convicts, and persons likely to become a public charg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83: Chinese Exclus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tion Act of 189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amists, moral turpitude,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uperintendent of Im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4: Immigration Restriction Le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5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rea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03: Moved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Commerce &amp;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04: Made anti-Chinese laws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06: Basic Naturaliz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iatic Barred Zone, 191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Content Placeholder 3" descr="800px-Asiatic_Barred_Zone.png"/>
          <p:cNvPicPr/>
          <p:nvPr/>
        </p:nvPicPr>
        <p:blipFill>
          <a:blip r:embed="rId1"/>
          <a:stretch/>
        </p:blipFill>
        <p:spPr>
          <a:xfrm>
            <a:off x="304920" y="1752480"/>
            <a:ext cx="84470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ttlement House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160" y="1676160"/>
            <a:ext cx="472428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ne Ad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ull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, health, education,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milation and Americ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and worst of Progressiv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janeaddams"/>
          <p:cNvPicPr/>
          <p:nvPr/>
        </p:nvPicPr>
        <p:blipFill>
          <a:blip r:embed="rId1"/>
          <a:srcRect l="1885" t="1371" r="1885" b="1371"/>
          <a:stretch/>
        </p:blipFill>
        <p:spPr>
          <a:xfrm>
            <a:off x="457200" y="1676520"/>
            <a:ext cx="3209760" cy="44114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ublic Health and Citie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lean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wa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ilation &amp; fire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ning &amp;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berculosis &amp;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riis3"/>
          <p:cNvPicPr/>
          <p:nvPr/>
        </p:nvPicPr>
        <p:blipFill>
          <a:blip r:embed="rId1"/>
          <a:srcRect l="2553" t="0" r="12766" b="0"/>
          <a:stretch/>
        </p:blipFill>
        <p:spPr>
          <a:xfrm>
            <a:off x="152280" y="1676520"/>
            <a:ext cx="3870360" cy="465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Jacob Riis, 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hotographe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464832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e photogra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graphy and social 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ckr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children,riis"/>
          <p:cNvPicPr/>
          <p:nvPr/>
        </p:nvPicPr>
        <p:blipFill>
          <a:blip r:embed="rId1"/>
          <a:srcRect l="8196" t="7299" r="8196" b="0"/>
          <a:stretch/>
        </p:blipFill>
        <p:spPr>
          <a:xfrm>
            <a:off x="5029200" y="1752480"/>
            <a:ext cx="3660840" cy="4876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rogressive Journalis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uption and social in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e the consciousnes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ality, democracy,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ckr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a B. Wells and ly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da Tarbe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Standard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Upton Sinclai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Jung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19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rogressivism &amp;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ugenic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62520" y="1719000"/>
            <a:ext cx="487656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 superior races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Darw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miscege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i-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 &amp; organize 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cial p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lligenc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Phrenology"/>
          <p:cNvPicPr/>
          <p:nvPr/>
        </p:nvPicPr>
        <p:blipFill>
          <a:blip r:embed="rId1"/>
          <a:srcRect l="0" t="2748" r="3529" b="2748"/>
          <a:stretch/>
        </p:blipFill>
        <p:spPr>
          <a:xfrm>
            <a:off x="380880" y="1828800"/>
            <a:ext cx="3300480" cy="423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2204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tter families &amp; better babies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7" descr="fitterfamiliesbig"/>
          <p:cNvPicPr/>
          <p:nvPr/>
        </p:nvPicPr>
        <p:blipFill>
          <a:blip r:embed="rId1"/>
          <a:srcRect l="3086" t="2840" r="1029" b="2840"/>
          <a:stretch/>
        </p:blipFill>
        <p:spPr>
          <a:xfrm>
            <a:off x="457200" y="1371600"/>
            <a:ext cx="7304040" cy="520380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eugenics_laws"/>
          <p:cNvPicPr/>
          <p:nvPr/>
        </p:nvPicPr>
        <p:blipFill>
          <a:blip r:embed="rId1"/>
          <a:srcRect l="3243" t="3200" r="3243" b="3200"/>
          <a:stretch/>
        </p:blipFill>
        <p:spPr>
          <a:xfrm>
            <a:off x="380880" y="304920"/>
            <a:ext cx="8293320" cy="6308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Progressive Era, 1880-192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9" name="Picture 6" descr="equal_350"/>
          <p:cNvPicPr/>
          <p:nvPr/>
        </p:nvPicPr>
        <p:blipFill>
          <a:blip r:embed="rId1"/>
          <a:srcRect l="0" t="6605" r="0" b="0"/>
          <a:stretch/>
        </p:blipFill>
        <p:spPr>
          <a:xfrm>
            <a:off x="457200" y="1905120"/>
            <a:ext cx="7997760" cy="4653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81280" y="380880"/>
            <a:ext cx="41911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nvironmentalis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76920" y="17521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Resources as public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rve &amp; prot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but con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ohn M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fford Pinc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muir"/>
          <p:cNvPicPr/>
          <p:nvPr/>
        </p:nvPicPr>
        <p:blipFill>
          <a:blip r:embed="rId1"/>
          <a:srcRect l="18604" t="0" r="6201" b="40000"/>
          <a:stretch/>
        </p:blipFill>
        <p:spPr>
          <a:xfrm>
            <a:off x="304920" y="304920"/>
            <a:ext cx="2989080" cy="2958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pinchot"/>
          <p:cNvPicPr/>
          <p:nvPr/>
        </p:nvPicPr>
        <p:blipFill>
          <a:blip r:embed="rId2"/>
          <a:srcRect l="2497" t="3750" r="3745" b="18750"/>
          <a:stretch/>
        </p:blipFill>
        <p:spPr>
          <a:xfrm>
            <a:off x="1523880" y="3352680"/>
            <a:ext cx="28972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hild Labo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w public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tton fields, factories and coal 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ople of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ing class poor whites, southe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childminer"/>
          <p:cNvPicPr/>
          <p:nvPr/>
        </p:nvPicPr>
        <p:blipFill>
          <a:blip r:embed="rId1"/>
          <a:srcRect l="0" t="1241" r="0" b="0"/>
          <a:stretch/>
        </p:blipFill>
        <p:spPr>
          <a:xfrm>
            <a:off x="5029200" y="1752480"/>
            <a:ext cx="3254400" cy="473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National Progressivis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05320" y="1752480"/>
            <a:ext cx="5333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of government to regulate nation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dore Roosev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st-bu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 Gov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ric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ge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roosevelt,2"/>
          <p:cNvPicPr/>
          <p:nvPr/>
        </p:nvPicPr>
        <p:blipFill>
          <a:blip r:embed="rId1"/>
          <a:srcRect l="17008" t="3512" r="8504" b="3512"/>
          <a:stretch/>
        </p:blipFill>
        <p:spPr>
          <a:xfrm>
            <a:off x="380880" y="1828800"/>
            <a:ext cx="2841840" cy="429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orm Legis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360"/>
            <a:ext cx="83059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06: Pure Food and Drug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13: 1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mendment (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13: 1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mendment (Sen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13: Harrison Act regulated narc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918: 18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Amendment (Prohib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920: 19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Amendment (Women’s vo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04960" y="122400"/>
            <a:ext cx="419076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Racial Equa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8640" y="1719000"/>
            <a:ext cx="52578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Association for the Advancement of Colored People, 19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ety for American Indians, 19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gue of United Latin American Citizens, 19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American Citizens League, 19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dubois1"/>
          <p:cNvPicPr/>
          <p:nvPr/>
        </p:nvPicPr>
        <p:blipFill>
          <a:blip r:embed="rId1"/>
          <a:srcRect l="0" t="6929" r="0" b="0"/>
          <a:stretch/>
        </p:blipFill>
        <p:spPr>
          <a:xfrm>
            <a:off x="380880" y="380880"/>
            <a:ext cx="2257560" cy="2854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arlosmontezuma"/>
          <p:cNvPicPr/>
          <p:nvPr/>
        </p:nvPicPr>
        <p:blipFill>
          <a:blip r:embed="rId2"/>
          <a:stretch/>
        </p:blipFill>
        <p:spPr>
          <a:xfrm>
            <a:off x="990720" y="3505320"/>
            <a:ext cx="1992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men Progress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C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F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minists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’s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ld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anthony_cleveland"/>
          <p:cNvPicPr/>
          <p:nvPr/>
        </p:nvPicPr>
        <p:blipFill>
          <a:blip r:embed="rId1"/>
          <a:srcRect l="4706" t="0" r="2353" b="0"/>
          <a:stretch/>
        </p:blipFill>
        <p:spPr>
          <a:xfrm>
            <a:off x="5257800" y="1905120"/>
            <a:ext cx="3560760" cy="46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Women’s Suffrage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8" name="Picture 9" descr="suff_parade"/>
          <p:cNvPicPr/>
          <p:nvPr/>
        </p:nvPicPr>
        <p:blipFill>
          <a:blip r:embed="rId1"/>
          <a:srcRect l="0" t="0" r="0" b="9917"/>
          <a:stretch/>
        </p:blipFill>
        <p:spPr>
          <a:xfrm>
            <a:off x="685800" y="1752480"/>
            <a:ext cx="7537320" cy="469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rigins of Progressivis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to “extremes” of moder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sm &amp; individu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banization &amp; 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“proble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Economic Extreme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e control of industry,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efeller &amp; Oil (19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negie &amp; U.S.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 Four” railr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-democr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trmiddle192"/>
          <p:cNvPicPr/>
          <p:nvPr/>
        </p:nvPicPr>
        <p:blipFill>
          <a:blip r:embed="rId1"/>
          <a:stretch/>
        </p:blipFill>
        <p:spPr>
          <a:xfrm>
            <a:off x="1295280" y="182520"/>
            <a:ext cx="58788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Standard Oil, 1906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6" descr="standardoiloctopus"/>
          <p:cNvPicPr/>
          <p:nvPr/>
        </p:nvPicPr>
        <p:blipFill>
          <a:blip r:embed="rId1"/>
          <a:srcRect l="0" t="0" r="0" b="6594"/>
          <a:stretch/>
        </p:blipFill>
        <p:spPr>
          <a:xfrm>
            <a:off x="304920" y="1752480"/>
            <a:ext cx="8235720" cy="441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The Other “Extreme”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kes &amp; pro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ights of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ted Mine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W.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iww"/>
          <p:cNvPicPr/>
          <p:nvPr/>
        </p:nvPicPr>
        <p:blipFill>
          <a:blip r:embed="rId1"/>
          <a:srcRect l="3609" t="2520" r="3609" b="2520"/>
          <a:stretch/>
        </p:blipFill>
        <p:spPr>
          <a:xfrm>
            <a:off x="5486400" y="1828800"/>
            <a:ext cx="3135240" cy="45957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angle Shirtwaist Fir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9076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11 New York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ked 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0 tra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6 women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male labor, bad working conditions, immigrant rights, shop floor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shirtwaistfire"/>
          <p:cNvPicPr/>
          <p:nvPr/>
        </p:nvPicPr>
        <p:blipFill>
          <a:blip r:embed="rId1"/>
          <a:srcRect l="2433" t="1875" r="1217" b="2813"/>
          <a:stretch/>
        </p:blipFill>
        <p:spPr>
          <a:xfrm>
            <a:off x="304920" y="1600200"/>
            <a:ext cx="3682800" cy="472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Deaths from Fir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6" descr="TriangleShirtwaist"/>
          <p:cNvPicPr/>
          <p:nvPr/>
        </p:nvPicPr>
        <p:blipFill>
          <a:blip r:embed="rId1"/>
          <a:srcRect l="0" t="0" r="0" b="3636"/>
          <a:stretch/>
        </p:blipFill>
        <p:spPr>
          <a:xfrm>
            <a:off x="838080" y="1752480"/>
            <a:ext cx="71582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ace</dc:creator>
  <dc:description/>
  <dc:language>en-US</dc:language>
  <cp:lastModifiedBy>Grace</cp:lastModifiedBy>
  <dcterms:modified xsi:type="dcterms:W3CDTF">2015-11-15T15:53:3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